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05D-DC00-41D3-9946-34D29FCF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F8E-DE4B-4AA6-9615-88370BDD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ECF-795E-4711-A2FB-FBAE2F2E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6C4-BF65-46AC-89BE-9D0CCE2F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A1A-9A7A-4B19-92A0-6CDE875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D17-29D2-4A92-98D5-009D7061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5C0-7F4F-4EDA-8026-209896B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7E9-8CBD-4AC6-8B26-38FBC11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8D0-543B-4214-8C46-E9020567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F2E-74C1-487F-8717-24D317E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3FE-4C4E-40C3-943C-0803082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39C-E5A2-4E37-84DC-09FC633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01B1-0751-4487-9509-AAB32F9F3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quia.com/quiz/664579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 and Indirec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ative C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 + Accus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Aquam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uell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 is giving the water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to the gir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re, someone is giving water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to some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ndirect obje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.  There is no movement anywhere.  Therefore, we use the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dative ca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nt:  You will often have a dative case indirect object with the verbs mando, monstro, dono, and nuntio.  If there is no motion toward a location, you probably have an indirec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click on the following link for a graded practice on the dativ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ive Case vs. Ad + Accusative Case</a:t>
            </a:r>
            <a:br>
              <a:rPr sz="32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quia.com/quiz/664579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 Cas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now learned the uses of three different noun cases in Lat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ve:  subject and predicate nominative (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g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o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tive:  calls/addresses someone (Regina clamat, “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i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ative:  direct object (Regina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ib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ellae ama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ive case is used for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direct obj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direct obj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ly receive the action of the ver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Anna pecuniam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aut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na gives money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to the sail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 Bene: 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a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erson “to whom” Anna gives the money. 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a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ndirect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rect object is the person(s) to or for whom an action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Nauta aquam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uel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ailor carries the water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for the girl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 Bene:  The dative case is translated into English by the prepositions “to” or “fo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 E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ive case endings for the first and second declensions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eclen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ll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ll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Declen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clens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209680"/>
          <a:ext cx="8229600" cy="276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 (Nom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 (Da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ī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 (Acc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e (Vo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clens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209680"/>
          <a:ext cx="8229600" cy="276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 (Nom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 (Da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ī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 (Acc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e (Vo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ative C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 + Accus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glish, you can translate the dative case with the words “to” or “for”.  Also be aware that you know the Latin preposition “ad”, which means “to/toward”.  Here are 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He is carrying the wa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the is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quam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 insula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r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is expressing movemen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ward a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refore, the Latin preposition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lu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usative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3:27:52Z</dcterms:created>
  <dc:creator>Lynchburg City Schools</dc:creator>
  <dc:description/>
  <dc:language>en-US</dc:language>
  <cp:lastModifiedBy>Stephen Czujko</cp:lastModifiedBy>
  <dcterms:modified xsi:type="dcterms:W3CDTF">2018-04-04T12:19:29Z</dcterms:modified>
  <cp:revision>8</cp:revision>
  <dc:subject/>
  <dc:title>Dative Case and Indirect Objects</dc:title>
</cp:coreProperties>
</file>